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845-A45C-4A48-AB34-2BD02BD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47E-75D4-45B4-9A84-7DD4FFB6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F89-A53F-4F2F-AF10-2DA34665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B4A-7E01-4767-84F6-55964FB6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D98-CC8F-4959-96B6-0E0B04FE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05E-11DC-4CB7-9A12-2D69165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90AC-88E8-40CD-82CD-62473AF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A26-952B-4FCE-ABD4-F8091966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053-A3E0-4542-8BEB-B0B7B2A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4F5-3111-492B-8325-0CA7109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1E6-AF21-4BA5-91A3-96C2D172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A6E-5DD8-4014-851E-676A862E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3940-45F1-4BB4-9F76-1B14CC00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sonline.bl.uk/britishlibrary/controller/subjectidsearch?id=898&amp;startid=932&amp;width=4&amp;height=2&amp;idx=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457200"/>
            <a:ext cx="5484960" cy="572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ml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aer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instant reaction / reveng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1905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phel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madness / suicid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1148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ortinbr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political ac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411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orat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talk / narra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2590920"/>
            <a:ext cx="5335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76920" y="25909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81280" y="3505320"/>
            <a:ext cx="60984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95280"/>
            <a:ext cx="15242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one perspective, Hamlet is a focus of self-consciousness, carefully managing his interactions with external others.  He is thus a precursor of modern dramatic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1371600"/>
            <a:ext cx="1676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other perspective, Hamlet interacts with other characters who represent actions and emotions that are options for Hamlet himself.  He is thus an echo of medieval, allegorical dramatic figu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let cloaks the Ghost’s secret behind an “antic dispositi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trange or odd soe'er I bear myself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I perchance hereafter shall think mee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ut an antic disposition 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you, at such times seeing me, never sha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rms encumber'd thus, or this headshak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by pronouncing of some doubtful phras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'Well, well, we know,' or 'We could, an if we would,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'If we list to speak,' or 'There be, an if they might,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 such ambiguous giving out, to no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you know aught of me: this not to do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grace and mercy at your most need help you, Swea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attempts to prove the Ghost’s tale by sift Clau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dius and Polonius attempt to sift Hamlet through Ophelia, Rosencrantz &amp; Gilden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onths interval between Act I &amp;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e done in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Hamlet wait to enact rev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od, sink into a slough of despond (getting into charact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 plan a fitting rev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ant to injure the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e the Ghost’s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evelop his inane character, which would give him the freedom of speech and action that he rel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5334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let’s cost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he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his doublet all unbraced,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t upon his head, his stockings fouled, / Ungart’red, and down-gyved to his ankle, 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 as his shir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ccording to historians, he adopts the guise of a forelorn lover, a la Rom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icture of 'Musketeer in red doublet'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762120"/>
            <a:ext cx="2667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and Ophelia: greatest puzzle of the play?  Greater than the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once loved her, but ceases to do so after the Ghost’s tale. In Act V, he tells Laertes he always lov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he cease to love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inc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says to his 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n act / That blurs the grace and blush of modesty, / Calls virtue hypocrite, takes off the rose / From the fair forehead of an innocent love / And sets a blister there.” (branding of a harlo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s Ophelia, “Get thee to a nunnery” and to ban all marriages (referring to his Mother to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treats Ophelia like a prostitute, but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nius says to Claudius and Gertr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uch a time I'll loose my daughter to hi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you and I behind an arras then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encounter: if he love her n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not from his reason fall'n there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be no assistant for a stat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keep a farm and cart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let overhears what Polonius sa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1:03:36Z</dcterms:created>
  <dc:creator>Gateway</dc:creator>
  <dc:description/>
  <dc:language>en-US</dc:language>
  <cp:lastModifiedBy>mstultz</cp:lastModifiedBy>
  <dcterms:modified xsi:type="dcterms:W3CDTF">2006-12-07T14:13:12Z</dcterms:modified>
  <cp:revision>2</cp:revision>
  <dc:subject/>
  <dc:title>Slide 1</dc:title>
</cp:coreProperties>
</file>